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B1B93-AAB0-4445-A57F-7B0FD2F2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E0C4-DD53-4CC3-89EA-A18E2BC6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ACBF3-C914-4E3C-B88F-9735C288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BF1AF-0989-48F3-BDC8-DE1304B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F7FC1-24E5-4DA8-9FC0-48ED62CC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71CFE-5993-4CFB-96F8-ABF0278E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BBB57-8084-47D0-A35D-1C685DB1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E7721-5A43-4BB4-A353-F1A4F9B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44BCA-72E2-43E9-96F4-275FE484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DE267-3C3B-495D-A914-70390160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1A64E-91AE-472B-AA5D-96C34BE4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1C612-E890-40A3-AC17-B7562C7D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68BF-8DE6-4EA2-90D8-585CB8B7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C6B47-CD03-4C3E-962E-16EFF87B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239A7-010F-47D2-9F5B-BAF50BA4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7B0B1-27CB-492E-9C6F-7E7AD3B3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FA528-BE83-4A5A-B684-BDD5EAD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81518-3038-489A-8701-895FD964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28AC7-323B-4942-9491-97AFE92D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F0B4E-3E75-4BA3-8916-ED7D64D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1C505-658F-4E9E-8E84-45EF7F4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E739A-DDF0-45BC-9DE2-302DB619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0BF4D-87A6-4381-A245-E746A6E4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8841-1741-449E-A83B-9A9D920E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8FC71-D179-43CA-9AF5-EE1E467F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984C-F2A6-4DE4-B309-C0364669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817A-A6A5-48C5-9BCE-C085043E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BD15-AFD8-40EE-A134-79669658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5964-94FE-4D9E-9227-FBF1AF8F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12BC-35B9-401A-8233-2AE5C6C9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F6C7-DEA2-463C-A224-96FE533F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EF42-EC95-4D35-A54F-7B4DD307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689A-46FC-4C49-B13B-EE7A2782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203C-0131-452E-BA51-D6550DF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A50D-5498-4AA3-A1E6-B66DAB22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9ABB-0B61-4443-89F9-6346EC16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3620-B2E5-4C2D-9A14-3B70E152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C94C-DDF4-4C88-9C89-A363E41F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FE0E-6AFB-4B51-8757-42D0022E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B848-9340-4C8A-9AAF-07BF53D4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523A-3277-4AB9-8638-2699669C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348E-8000-425F-B2CB-64303F5A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3813-0A32-423A-9998-ED02E34E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D5D4-5E1A-4092-B66C-39238262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F218-16EB-4713-82A1-728BD9EA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6315-9858-4243-849B-8E8E21D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8BAE-896D-46EF-A33B-0E265B5F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508EE-DA40-4D9E-A5AD-279A1FB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1B0B9-7F20-4727-B124-C2B59696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A1C3-8021-42ED-9193-9A35DE87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CB2D-B08C-4FED-A825-A3A97BDA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0398-F035-4FE8-B109-A8ECB349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092E4-B58B-4635-B431-786930BD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EE5AD-94F0-4687-A966-72298E0C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08F3-9E08-47A4-9681-6CF9320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A550-D03D-4AC4-A933-75689884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0D5BD-6093-4E05-B96C-FC4382BE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1814-B731-4198-95AD-361434DF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EC42-8870-4CF3-BB25-48BBD0CA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72CE8-7F16-4B26-8F40-D2D6F9C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1334-AD3D-441B-ACE4-9287DCA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2EC4-2E5F-4A0B-B74A-9DBD8FAA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7F93-75A5-4410-8B78-EBC90A0B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43C3-7981-44D1-BBE9-F675DC3C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55EEE-8970-46D8-8A29-7CE6974E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67FD-A16F-43EC-9757-BB500E5D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4754-2A96-49EA-BAD9-5FE15EC6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53908-7F27-4EFB-9BA2-16BE0A5A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B9739-17E2-4F3C-9E43-484AFCD4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2A2EA-B72C-4585-BF1E-2CF3E585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0B23-AE33-46FB-9417-01572347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0D81-C5E5-4DC6-A33C-772D5C6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113B0-C9D5-4FF4-BC2D-7CE54370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0390D-25DD-42F7-B806-E28C6E3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6ACD3-C037-4C11-8EDB-6C22FD27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C944-C751-48B9-A774-FE427F59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E74F-0AD0-48C9-9A57-203F5F3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6E243-4AEB-4800-99AB-09AAFE4B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A1500-DDA2-4565-91C2-F5748AEC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4FE7A-309F-4AF0-B728-5E24F529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D1870-404B-4D4A-B9DC-9729502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2BF4-8817-4BEE-AA64-ADB130EF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DD824-34A1-4CE7-88A1-2698B246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F5326-0E41-4888-846A-7869FBB9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D1EB-EA33-46C2-AF92-A4D057D0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73A9-97EA-4590-B5DE-28B1BD5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8477-2E1B-4A29-A83A-71C7B2C3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95C3-17D5-44A8-A6DD-7F882CB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662CE-A069-491E-B007-58DA9369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E4975-2F62-46BB-B057-7547FB60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C8FB9-376E-4D40-9508-B96F6A75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36DBE-0C75-407B-AFBD-33193F71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8ECB2-6A92-4A15-A71C-3CEABF97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7CC3-432B-4388-AEBE-A6A9B85C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AE20F-A9B7-48E9-98EB-44DEDAFB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45EA-4ED1-47E2-8AE4-F499338C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4465-3535-4089-88F9-2775151F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669A4-7F27-4A30-B814-AB17507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2036-5266-4194-9AF3-CBA668D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723D3-FF36-4242-A4CD-EA5C0C64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BFDBE-BE15-4DA1-87FC-D5C9FEE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54176-41BE-4515-97EF-B73436FF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04F8-9BD5-42DB-AC1C-551A2947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CB33-14B7-4B62-B164-D362465B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A7270-BCA1-491B-A2A4-FF0E0B31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C0094-311A-46A1-82FC-A2BDF3CD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2EEFD-0F38-4B26-A221-78A6AEB2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644C9-D392-4944-9563-932BB3DE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E06F8-86AC-476C-AB48-E67B967D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71F9-B876-47F4-9E05-F1D0C10F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2CC8-36B2-49EC-B5B8-7E380F6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1C09E-2D58-4E43-AD33-697E3F94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0966B-D4C4-4094-9BE2-925E717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4886-72B0-4A41-B15C-2DF0171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DD719-28FA-435A-8AEA-A4C8DF18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F8225-2AC4-41F3-9D34-4ED64FCF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9D0E0-BAF1-4B78-9000-EFCBE71B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7E68D-E186-4279-B87C-C87DF310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42CA4-20AC-4FB5-AA08-AAE40114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E0670-26D6-4392-B51E-209A5B07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A6DE-F24F-4D2B-9351-7F151E7CCA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9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1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658-7502-4398-B12C-BB8B985B0BC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50E9-5D98-4FE7-9AFC-D7C0E2DA2E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3AEE-2E08-4C6B-87BA-3400051619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8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32C1-446E-4D23-A071-3FC259C350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4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BF65-184D-47FC-B9FF-AF5F6413C6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8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8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9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F7B2-90C0-483B-A326-80D4CCB341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AEE3-DAE8-4B8F-862E-D733BB1217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FDA9-3920-4E08-B70B-8FFD9CD16C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2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2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CE91-0F9E-4B32-A670-B747901BC7E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Stencil"/>
              </a:rPr>
              <a:t>Factoring review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914400" y="4495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owcard Gothic"/>
              </a:rPr>
              <a:t>Walk through Chapter 9 with Factoring in Math A/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38188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ONGRATULATIONS!</a:t>
            </a:r>
            <a:br>
              <a:rPr sz="5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 made it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w, let’s look at the other piece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inding GCF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2128320"/>
            <a:ext cx="815328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How about the GCF fo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and  15xy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">
            <a:hlinkClick r:id="rId1"/>
          </p:cNvPr>
          <p:cNvSpPr/>
          <p:nvPr/>
        </p:nvSpPr>
        <p:spPr>
          <a:xfrm>
            <a:off x="457200" y="990720"/>
            <a:ext cx="8229600" cy="990360"/>
          </a:xfrm>
          <a:custGeom>
            <a:avLst/>
            <a:gdLst>
              <a:gd name="textAreaLeft" fmla="*/ 64080 w 8229600"/>
              <a:gd name="textAreaRight" fmla="*/ 8165520 w 8229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79432" h="21600">
                <a:moveTo>
                  <a:pt x="0" y="0"/>
                </a:moveTo>
                <a:lnTo>
                  <a:pt x="179432" y="0"/>
                </a:lnTo>
                <a:lnTo>
                  <a:pt x="179432" y="21600"/>
                </a:lnTo>
                <a:lnTo>
                  <a:pt x="0" y="21600"/>
                </a:lnTo>
                <a:close/>
              </a:path>
              <a:path fill="lightenLess" w="179432" h="21600">
                <a:moveTo>
                  <a:pt x="0" y="0"/>
                </a:moveTo>
                <a:lnTo>
                  <a:pt x="179432" y="0"/>
                </a:lnTo>
                <a:lnTo>
                  <a:pt x="178032" y="1400"/>
                </a:lnTo>
                <a:lnTo>
                  <a:pt x="1400" y="1400"/>
                </a:lnTo>
                <a:close/>
              </a:path>
              <a:path fill="darken" w="179432" h="21600">
                <a:moveTo>
                  <a:pt x="179432" y="0"/>
                </a:moveTo>
                <a:lnTo>
                  <a:pt x="179432" y="21600"/>
                </a:lnTo>
                <a:lnTo>
                  <a:pt x="178032" y="20200"/>
                </a:lnTo>
                <a:lnTo>
                  <a:pt x="178032" y="1400"/>
                </a:lnTo>
                <a:close/>
              </a:path>
              <a:path fill="darkenLess" w="179432" h="21600">
                <a:moveTo>
                  <a:pt x="179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032" y="20200"/>
                </a:lnTo>
                <a:close/>
              </a:path>
              <a:path fill="lighten" w="179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5800" y="1143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ATEST COMMO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" y="3657600"/>
            <a:ext cx="868680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number goes into both 5 and 15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biggest quantity of x and y in bo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057400" y="5105520"/>
            <a:ext cx="472428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CF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5xy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about COMMON FACTORING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Find the GCF and “pull that out to the front”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Comic Sans MS"/>
              </a:rPr>
              <a:t>How would you factor: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3x</a:t>
            </a:r>
            <a:r>
              <a:rPr b="1" lang="en-US" sz="2800" spc="-1" strike="noStrike" baseline="30000">
                <a:solidFill>
                  <a:srgbClr val="eaeaea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 + 18x</a:t>
            </a:r>
            <a:r>
              <a:rPr b="1" lang="en-US" sz="2800" spc="-1" strike="noStrike" baseline="30000">
                <a:solidFill>
                  <a:srgbClr val="eaeaea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1" name=""/>
          <p:cNvSpPr/>
          <p:nvPr/>
        </p:nvSpPr>
        <p:spPr>
          <a:xfrm>
            <a:off x="289080" y="3589200"/>
            <a:ext cx="82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38098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The GCF would be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ce you factor that out, your left with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62320" y="57150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(x+6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85800" y="380880"/>
            <a:ext cx="8458200" cy="99072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CTORING INTO TWO PARENTHESI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18288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CTORING PERFECT SQU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14x + 49        2.  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0y + 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358128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x + 7)(x + 7)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(y – 5)(y – 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x + 7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(y – 5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480" y="22860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CTORING DIFFERENCE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O SQU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3526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x + 6)(x - 6)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(y – 11)(y + 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6212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36                      2.  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FACTORING INTO</a:t>
            </a:r>
            <a:br>
              <a:rPr sz="3800"/>
            </a:b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TWO BINOMI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x +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2. 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y + 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90720" y="4114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x – 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4.  y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13y – 1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14400" y="2590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 + 5)(x + 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(y – 6)(y –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990720" y="4876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 – 4)(x + 3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(y + 14)(y –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762120" y="533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LVING QUADRA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520" y="1676520"/>
            <a:ext cx="83055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EPS TO SOLVE A QUADRA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late the quadratic and set =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to factor, either Common or Binom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each factor =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ve for each facto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’s practice one….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752480" y="1600200"/>
            <a:ext cx="6477120" cy="1066680"/>
          </a:xfrm>
          <a:custGeom>
            <a:avLst/>
            <a:gdLst>
              <a:gd name="textAreaLeft" fmla="*/ 69120 w 6477120"/>
              <a:gd name="textAreaRight" fmla="*/ 6408000 w 6477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31123" h="21600">
                <a:moveTo>
                  <a:pt x="0" y="0"/>
                </a:moveTo>
                <a:lnTo>
                  <a:pt x="131123" y="0"/>
                </a:lnTo>
                <a:lnTo>
                  <a:pt x="131123" y="21600"/>
                </a:lnTo>
                <a:lnTo>
                  <a:pt x="0" y="21600"/>
                </a:lnTo>
                <a:close/>
              </a:path>
              <a:path fill="lightenLess" w="131123" h="21600">
                <a:moveTo>
                  <a:pt x="0" y="0"/>
                </a:moveTo>
                <a:lnTo>
                  <a:pt x="131123" y="0"/>
                </a:lnTo>
                <a:lnTo>
                  <a:pt x="129723" y="1400"/>
                </a:lnTo>
                <a:lnTo>
                  <a:pt x="1400" y="1400"/>
                </a:lnTo>
                <a:close/>
              </a:path>
              <a:path fill="darken" w="131123" h="21600">
                <a:moveTo>
                  <a:pt x="131123" y="0"/>
                </a:moveTo>
                <a:lnTo>
                  <a:pt x="131123" y="21600"/>
                </a:lnTo>
                <a:lnTo>
                  <a:pt x="129723" y="20200"/>
                </a:lnTo>
                <a:lnTo>
                  <a:pt x="129723" y="1400"/>
                </a:lnTo>
                <a:close/>
              </a:path>
              <a:path fill="darkenLess" w="131123" h="21600">
                <a:moveTo>
                  <a:pt x="131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723" y="20200"/>
                </a:lnTo>
                <a:close/>
              </a:path>
              <a:path fill="lighten" w="131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5x = 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52480" y="2743200"/>
            <a:ext cx="6477120" cy="1066680"/>
          </a:xfrm>
          <a:custGeom>
            <a:avLst/>
            <a:gdLst>
              <a:gd name="textAreaLeft" fmla="*/ 69120 w 6477120"/>
              <a:gd name="textAreaRight" fmla="*/ 6408000 w 6477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31123" h="21600">
                <a:moveTo>
                  <a:pt x="0" y="0"/>
                </a:moveTo>
                <a:lnTo>
                  <a:pt x="131123" y="0"/>
                </a:lnTo>
                <a:lnTo>
                  <a:pt x="131123" y="21600"/>
                </a:lnTo>
                <a:lnTo>
                  <a:pt x="0" y="21600"/>
                </a:lnTo>
                <a:close/>
              </a:path>
              <a:path fill="lightenLess" w="131123" h="21600">
                <a:moveTo>
                  <a:pt x="0" y="0"/>
                </a:moveTo>
                <a:lnTo>
                  <a:pt x="131123" y="0"/>
                </a:lnTo>
                <a:lnTo>
                  <a:pt x="129723" y="1400"/>
                </a:lnTo>
                <a:lnTo>
                  <a:pt x="1400" y="1400"/>
                </a:lnTo>
                <a:close/>
              </a:path>
              <a:path fill="darken" w="131123" h="21600">
                <a:moveTo>
                  <a:pt x="131123" y="0"/>
                </a:moveTo>
                <a:lnTo>
                  <a:pt x="131123" y="21600"/>
                </a:lnTo>
                <a:lnTo>
                  <a:pt x="129723" y="20200"/>
                </a:lnTo>
                <a:lnTo>
                  <a:pt x="129723" y="1400"/>
                </a:lnTo>
                <a:close/>
              </a:path>
              <a:path fill="darkenLess" w="131123" h="21600">
                <a:moveTo>
                  <a:pt x="131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723" y="20200"/>
                </a:lnTo>
                <a:close/>
              </a:path>
              <a:path fill="lighten" w="131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5x – 66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752480" y="3962520"/>
            <a:ext cx="6477120" cy="1066680"/>
          </a:xfrm>
          <a:custGeom>
            <a:avLst/>
            <a:gdLst>
              <a:gd name="textAreaLeft" fmla="*/ 69120 w 6477120"/>
              <a:gd name="textAreaRight" fmla="*/ 6408000 w 6477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31123" h="21600">
                <a:moveTo>
                  <a:pt x="0" y="0"/>
                </a:moveTo>
                <a:lnTo>
                  <a:pt x="131123" y="0"/>
                </a:lnTo>
                <a:lnTo>
                  <a:pt x="131123" y="21600"/>
                </a:lnTo>
                <a:lnTo>
                  <a:pt x="0" y="21600"/>
                </a:lnTo>
                <a:close/>
              </a:path>
              <a:path fill="lightenLess" w="131123" h="21600">
                <a:moveTo>
                  <a:pt x="0" y="0"/>
                </a:moveTo>
                <a:lnTo>
                  <a:pt x="131123" y="0"/>
                </a:lnTo>
                <a:lnTo>
                  <a:pt x="129723" y="1400"/>
                </a:lnTo>
                <a:lnTo>
                  <a:pt x="1400" y="1400"/>
                </a:lnTo>
                <a:close/>
              </a:path>
              <a:path fill="darken" w="131123" h="21600">
                <a:moveTo>
                  <a:pt x="131123" y="0"/>
                </a:moveTo>
                <a:lnTo>
                  <a:pt x="131123" y="21600"/>
                </a:lnTo>
                <a:lnTo>
                  <a:pt x="129723" y="20200"/>
                </a:lnTo>
                <a:lnTo>
                  <a:pt x="129723" y="1400"/>
                </a:lnTo>
                <a:close/>
              </a:path>
              <a:path fill="darkenLess" w="131123" h="21600">
                <a:moveTo>
                  <a:pt x="131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723" y="20200"/>
                </a:lnTo>
                <a:close/>
              </a:path>
              <a:path fill="lighten" w="131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x – 11)(x + 6)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752480" y="5257800"/>
            <a:ext cx="6477120" cy="1066680"/>
          </a:xfrm>
          <a:custGeom>
            <a:avLst/>
            <a:gdLst>
              <a:gd name="textAreaLeft" fmla="*/ 69120 w 6477120"/>
              <a:gd name="textAreaRight" fmla="*/ 6408000 w 6477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31123" h="21600">
                <a:moveTo>
                  <a:pt x="0" y="0"/>
                </a:moveTo>
                <a:lnTo>
                  <a:pt x="131123" y="0"/>
                </a:lnTo>
                <a:lnTo>
                  <a:pt x="131123" y="21600"/>
                </a:lnTo>
                <a:lnTo>
                  <a:pt x="0" y="21600"/>
                </a:lnTo>
                <a:close/>
              </a:path>
              <a:path fill="lightenLess" w="131123" h="21600">
                <a:moveTo>
                  <a:pt x="0" y="0"/>
                </a:moveTo>
                <a:lnTo>
                  <a:pt x="131123" y="0"/>
                </a:lnTo>
                <a:lnTo>
                  <a:pt x="129723" y="1400"/>
                </a:lnTo>
                <a:lnTo>
                  <a:pt x="1400" y="1400"/>
                </a:lnTo>
                <a:close/>
              </a:path>
              <a:path fill="darken" w="131123" h="21600">
                <a:moveTo>
                  <a:pt x="131123" y="0"/>
                </a:moveTo>
                <a:lnTo>
                  <a:pt x="131123" y="21600"/>
                </a:lnTo>
                <a:lnTo>
                  <a:pt x="129723" y="20200"/>
                </a:lnTo>
                <a:lnTo>
                  <a:pt x="129723" y="1400"/>
                </a:lnTo>
                <a:close/>
              </a:path>
              <a:path fill="darkenLess" w="131123" h="21600">
                <a:moveTo>
                  <a:pt x="131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723" y="20200"/>
                </a:lnTo>
                <a:close/>
              </a:path>
              <a:path fill="lighten" w="131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= 11   or    x = 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x + 20                       2. 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17y = 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90720" y="259092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 right, work them out…… Get your answers, then I’ll post them below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143000" y="4876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x = 5 or x = -4              2.  y = -15 or y = 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3:42:35Z</dcterms:created>
  <dc:creator>tgiannicchi</dc:creator>
  <dc:description/>
  <dc:language>en-US</dc:language>
  <cp:lastModifiedBy>Mark Carls</cp:lastModifiedBy>
  <dcterms:modified xsi:type="dcterms:W3CDTF">2008-02-28T21:59:55Z</dcterms:modified>
  <cp:revision>34</cp:revision>
  <dc:subject/>
  <dc:title>Factoring review!</dc:title>
</cp:coreProperties>
</file>